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png" ContentType="image/png"/>
  <Override PartName="/ppt/media/image15.wmf" ContentType="image/x-wmf"/>
  <Override PartName="/ppt/media/image20.jpeg" ContentType="image/jpeg"/>
  <Override PartName="/ppt/media/image17.wmf" ContentType="image/x-wmf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8.wmf" ContentType="image/x-wmf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83E-6D09-48E0-903D-3F995705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936D-265D-401A-A313-BCC3ADA2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FE9-BAE2-4D4F-8A8D-39EB3C0B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BCD-8C5C-4D73-9922-23A51BC9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265E-A82C-4058-967B-8F125E55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E89-6D5E-4D67-A999-E53047D6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B5F6-89BD-4D46-B4CB-BCAF91D1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28B-5B9D-447E-86A5-F0A81936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3A1-AC68-4BB2-9224-A4962950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29B-E666-4EF3-92FF-054E03BD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C393-A7A0-4AA6-8F09-E48B74AE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3BC4-A9CE-492D-B324-077DB925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515E-71FB-4813-9796-D2120A509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0740" t="24028" r="37911" b="465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2400" cy="2374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Фестиваль исследовательских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и творческих работ учащихся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«Портфолио»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тема: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«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Искусство тан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79640" y="522900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Автор : Мармыль Оксана 5 «Б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Руководитель : Мармыль С.Ю.  Социальный 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Консультант: Шустова Е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49360"/>
            <a:ext cx="8064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«Средняя общеобразовательная школа № 7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г. Ангарск ,Иркут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15875" t="22906" r="22878" b="19820"/>
          <a:stretch/>
        </p:blipFill>
        <p:spPr>
          <a:xfrm>
            <a:off x="250920" y="40464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30749" t="22906" r="38124" b="476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Введение спец.предмета по преподаванию танца в общеобразовательную шко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56894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Школьный бал! Как это волнующе звучит!</a:t>
            </a:r>
            <a:r>
              <a:rPr b="0" i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292720" y="2637000"/>
            <a:ext cx="304812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30749" t="22906" r="38124" b="476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 МОУ «СОШ № 7»  учащиеся                1 а класса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полугодие занимались ритмикой и посещали уроки в «Театре Сказок», что положительно сказалось на   общем развитии детей.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651640" y="5013360"/>
            <a:ext cx="280008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30749" t="22906" r="38124" b="476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Работа с учащимися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52560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аграмма опроса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55640" y="1557360"/>
          <a:ext cx="7931160" cy="38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557360"/>
                    <a:ext cx="79311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30749" t="22906" r="38124" b="476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Работа с родителями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Диаграмма опроса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981000"/>
          <a:ext cx="7848720" cy="403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981000"/>
                    <a:ext cx="78487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0" y="173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30749" t="22906" r="38124" b="476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иаграмма развити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95280" y="836640"/>
          <a:ext cx="8353440" cy="41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836640"/>
                    <a:ext cx="835344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rcRect l="30749" t="22906" r="38124" b="4769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образовательная ценность танца    для детей первого десятилетия жизни особенно возросла в наше время, когда ежегодно увеличивается число детей с проблемами психического, физического и социального здоровь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940360" y="4595760"/>
            <a:ext cx="2448000" cy="2230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468000" cy="6858000"/>
            <a:chOff x="0" y="0"/>
            <a:chExt cx="9468000" cy="68580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rcRect l="30749" t="22906" r="38124" b="47695"/>
            <a:stretch/>
          </p:blipFill>
          <p:spPr>
            <a:xfrm>
              <a:off x="0" y="0"/>
              <a:ext cx="9468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 txBox="1"/>
            <p:nvPr/>
          </p:nvSpPr>
          <p:spPr>
            <a:xfrm>
              <a:off x="0" y="0"/>
              <a:ext cx="9468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2492280"/>
            <a:ext cx="59151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УПРАЖНЕНИЕ НА КООРДИНАЦИЮ ДВИЖЕНИЯ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Встаньте на одну н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Сделайте пальцы в форме лот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Спина прямая, плечи и руки расслаблены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Делая хаотические движения руками, произносите звук «М-м-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Вы устояли? .. У Вас не кружится голова?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МОЛОДЦЫ! У ВАС ПОЛУЧИ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333360"/>
            <a:ext cx="8424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едём эксперимент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229440" y="2637000"/>
            <a:ext cx="3009960" cy="403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4869000"/>
            <a:ext cx="9144000" cy="1226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720" indent="-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0" indent="-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спехов и творчества ВА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0" indent="-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орогие участник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30749" t="22906" r="38124" b="476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Если ты хочешь   наслаждаться искусств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             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ты должен быть      художественно образованным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Карл Марк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>
            <a:alphaModFix amt="56000"/>
          </a:blip>
          <a:stretch/>
        </p:blipFill>
        <p:spPr>
          <a:xfrm>
            <a:off x="1476360" y="3645000"/>
            <a:ext cx="309564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30749" t="22906" r="38124" b="476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37396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Одна из проблем современного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Неумение сопоставить ритмические движения с музы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489744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30749" t="22906" r="38124" b="476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Гипотеза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402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Положительное влияние танца н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Цель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выявить значение танца для общего и эстетического развития человека.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32144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0749" t="22906" r="38124" b="476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Перед нами возникли 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Выяснить что же такое тане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Каковы особенности этого    искусств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В чём сила его очар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Какое воздействие танец имеет на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30749" t="22906" r="38124" b="476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Предмет исследования  -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искусство та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Объект исследования –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музыкально – ритмические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Методы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-изучить и проанализировать литературу по теме исследов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-проанализировать особенности танцевальной музы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- проанализировать особенности танцев народов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-сделать вы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30749" t="22906" r="38124" b="476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«ХОРЕОГРАФИЯ»- запись жестов, тан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«Хорео»- пля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«Графия» - пи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284720" y="3198960"/>
            <a:ext cx="4464000" cy="333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30749" t="22906" r="38124" b="476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4920" y="1916280"/>
            <a:ext cx="5977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Термин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« классический танец» появился В России  в 50-60 годы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XIX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стория первой «Танцевальной школы» началась в 1738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156360" y="2997360"/>
            <a:ext cx="248112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30749" t="22906" r="38124" b="476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Исторические примеры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1773360"/>
            <a:ext cx="66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Лев Николаевич Толстой прекрасно танцевал, владел техникой та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Климент Ефремович Ворошилов в 1951 году вальсировал в Будапеште в посоль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9:23:52Z</dcterms:created>
  <dc:creator>у</dc:creator>
  <dc:description/>
  <dc:language>en-US</dc:language>
  <cp:lastModifiedBy>max</cp:lastModifiedBy>
  <dcterms:modified xsi:type="dcterms:W3CDTF">2010-01-10T08:36:35Z</dcterms:modified>
  <cp:revision>42</cp:revision>
  <dc:subject/>
  <dc:title>Методическое пособие  для классного руководителя</dc:title>
</cp:coreProperties>
</file>